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1.gif" ContentType="image/gif"/>
  <Override PartName="/ppt/media/NEW1_01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2F6-0D32-494F-A53A-86599896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C9C-779E-41FA-A6F8-13F1074C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C6C-9181-41B3-8BB3-6EC15892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724-065D-4D2C-9002-FEB501B7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91A-DFE2-4A2D-8AAC-1DB647A7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43D-2BCD-4297-B911-84831D7B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ABD-E8AE-4619-80E9-8A1EEC44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3AE-2092-415B-9C70-370AF10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EE5-9429-4777-BE6A-163C816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F48-90CD-4D8D-80E6-FFA4A8D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BC8-BD95-48F8-8FB0-B24176E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D18-DEE4-4E46-AA11-986122D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2ABD-AB8E-4D7E-9188-C56214AED1C0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NEW1_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2362320"/>
            <a:ext cx="64771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5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0" spc="-1" strike="noStrike">
                <a:solidFill>
                  <a:srgbClr val="3333cc"/>
                </a:solidFill>
                <a:latin typeface="B Nazanin"/>
                <a:cs typeface="B Nazanin Outline"/>
              </a:rPr>
              <a:t>پسربچه و</a:t>
            </a:r>
            <a:r>
              <a:rPr b="1" lang="ar-SA" sz="12000" spc="-1" strike="noStrike">
                <a:solidFill>
                  <a:srgbClr val="ccccff"/>
                </a:solidFill>
                <a:latin typeface="B Nazanin"/>
                <a:ea typeface="B Nazanin Outline"/>
              </a:rPr>
              <a:t> </a:t>
            </a:r>
            <a:r>
              <a:rPr b="1" lang="ar-SA" sz="12000" spc="-1" strike="noStrike">
                <a:solidFill>
                  <a:srgbClr val="ff3300"/>
                </a:solidFill>
                <a:latin typeface="B Nazanin"/>
                <a:cs typeface="B Nazanin Outline"/>
              </a:rPr>
              <a:t>درخت سیب</a:t>
            </a:r>
            <a:r>
              <a:rPr b="1" lang="ar-SA" sz="12000" spc="-1" strike="noStrike">
                <a:solidFill>
                  <a:srgbClr val="ccccff"/>
                </a:solidFill>
                <a:latin typeface="B Nazanin"/>
                <a:ea typeface="B Nazanin Outline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  <a:ea typeface="B Nazanin"/>
              </a:rPr>
              <a:t>( </a:t>
            </a:r>
            <a:r>
              <a:rPr b="1" lang="ar-SA" sz="2800" spc="-1" strike="noStrike">
                <a:solidFill>
                  <a:srgbClr val="009900"/>
                </a:solidFill>
                <a:latin typeface="Times New Roman"/>
                <a:cs typeface="B Nazanin"/>
              </a:rPr>
              <a:t>همراه صدا</a:t>
            </a:r>
            <a:r>
              <a:rPr b="1" lang="ar-SA" sz="2800" spc="-1" strike="noStrike">
                <a:solidFill>
                  <a:srgbClr val="009900"/>
                </a:solidFill>
                <a:latin typeface="Times New Roman"/>
                <a:ea typeface="B Nazanin"/>
              </a:rPr>
              <a:t>  </a:t>
            </a:r>
            <a:r>
              <a:rPr b="1" lang="ar-SA" sz="2800" spc="-1" strike="noStrike">
                <a:solidFill>
                  <a:srgbClr val="009900"/>
                </a:solidFill>
                <a:latin typeface="Times New Roman"/>
                <a:ea typeface="B Nazanin"/>
              </a:rPr>
              <a:t>)</a:t>
            </a:r>
            <a:r>
              <a:rPr b="1" lang="ar-SA" sz="4000" spc="-1" strike="noStrike">
                <a:solidFill>
                  <a:srgbClr val="ccff33"/>
                </a:solidFill>
                <a:latin typeface="Times New Roman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2520" y="4038480"/>
            <a:ext cx="1028520" cy="1096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  <p:sndAc>
      <p:stSnd>
        <p:snd r:embed="rId2" name="NEW1_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457200"/>
            <a:ext cx="57913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مدتها گذشت و پسر مبدل به مرد جوانی ش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با اضطراب سراغ درخت آم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267080" cy="4496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2209680"/>
            <a:ext cx="45720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« چرا غمگینی ؟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درخت از او پرسی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« بیا و در سایه ام بنشی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بدون ت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 خیلی احساس تنهائی می کنم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267080" y="1371600"/>
            <a:ext cx="487692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( مرد جوان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جواب دا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ea typeface="B Titr"/>
              </a:rPr>
              <a:t>« فرصت کافی ندار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cs typeface="B Titr"/>
              </a:rPr>
              <a:t>باید برای خانواده ام تلاش کنم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cs typeface="B Titr"/>
              </a:rPr>
              <a:t>باید برایشان خانه ای بساز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cs typeface="B Titr"/>
              </a:rPr>
              <a:t>نیاز به سرمایه دارم 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173480" cy="51818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95680" y="1066680"/>
            <a:ext cx="464832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خت گفت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 سرمایه ای برای کمک ندار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تو می توانی با شاخه های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تنه ا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رای خودت خانه بسازی 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8120" y="5335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خوشحال شد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0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2520" y="5867280"/>
            <a:ext cx="72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... و تمام شاخه ها و تنه ی درخت را بر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و با آنها ...  خانه ای برای خودش ساخت ...</a:t>
            </a:r>
            <a:r>
              <a:rPr b="1" lang="ar-SA" sz="2800" spc="-1" strike="noStrike">
                <a:solidFill>
                  <a:srgbClr val="000000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588960"/>
            <a:ext cx="6019920" cy="44244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762120"/>
            <a:ext cx="739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دوباره درخت تنها مان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و پسر بر نگش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زمانی طولانی بسر آم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00200" y="1143000"/>
            <a:ext cx="541008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پس از سالیان دراز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در حالی برگش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که پیر بود و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غمگین و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خسته و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تن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43200" y="685800"/>
            <a:ext cx="5562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درخت از او پرسی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چرا غمگینی 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ی کاش می توانستم ...  کمکت کنم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95480" y="2638440"/>
            <a:ext cx="5086440" cy="3427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43200" y="685800"/>
            <a:ext cx="556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….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 اما دیگر .... نه سیب دارم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نه شاخه و تن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حتی سایه هم ندارم برای پناه دادن به تو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29000" y="2666880"/>
            <a:ext cx="5086440" cy="3427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7320" y="3962520"/>
            <a:ext cx="36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هیچ چیز برا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خشیدن ندارم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43200" y="685800"/>
            <a:ext cx="55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( پیر مرد ) درجواب گفت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خسته ام از این زندگ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تنها هم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95480" y="2638440"/>
            <a:ext cx="5086440" cy="3427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00800" y="1447920"/>
            <a:ext cx="25146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يكی نب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يكی بو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 روزگاران قدي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خت سيب تنومندي بود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ا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586728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90920" y="1219320"/>
            <a:ext cx="556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فقط نیازمند بودن با تو ا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آیا می توانم کنارت بنشینم ؟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95480" y="2638440"/>
            <a:ext cx="5086440" cy="3427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5920" y="317016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9240" y="3733920"/>
            <a:ext cx="64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.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.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.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91320" y="533520"/>
            <a:ext cx="297180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پسر ( پیر مرد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کنار درخت نشست . . .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با هم بودن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به سالیان و به سالیان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در لحظه های شادی 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اندوه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24484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762120"/>
            <a:ext cx="746784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آن پسر آیا بی رحم  و  خود خواه بود ؟؟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762120"/>
            <a:ext cx="784872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B Titr"/>
                <a:ea typeface="B Titr"/>
              </a:rPr>
              <a:t> </a:t>
            </a:r>
            <a:r>
              <a:rPr b="1" lang="ar-SA" sz="12100" spc="-1" strike="noStrike">
                <a:solidFill>
                  <a:srgbClr val="ff0000"/>
                </a:solidFill>
                <a:latin typeface="Times New Roman"/>
                <a:cs typeface="B Titr"/>
              </a:rPr>
              <a:t>نه . . .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ما همه شبیه او هستیم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و با والدین خود چنین رفتاری داریم ...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B Tit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imes New Roman"/>
                <a:cs typeface="B Titr"/>
              </a:rPr>
              <a:t>؟؟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457200"/>
            <a:ext cx="74678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درخت همان والدین ماست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تا کوچکی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وست داریم با آنها بازی کنی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تنهایشان می گذاریم بع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زمانی بسویشان  برمی گردی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B Titr"/>
                <a:cs typeface="B Titr"/>
              </a:rPr>
              <a:t>که نیازمند هستی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B Titr"/>
              </a:rPr>
              <a:t>یا گرفتار</a:t>
            </a:r>
            <a:r>
              <a:rPr b="1" lang="ar-SA" sz="4400" spc="-1" strike="noStrike">
                <a:solidFill>
                  <a:srgbClr val="ff0000"/>
                </a:solidFill>
                <a:latin typeface="B Titr"/>
                <a:ea typeface="B Tit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380880"/>
            <a:ext cx="830592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برای والدین خود وقت نمی گذاریم ...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به این مهم توجه نمی کنیم که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B Titr"/>
              </a:rPr>
              <a:t>پدر و مادر ها همیشه به ما همه چیز می ده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B Titr"/>
                <a:cs typeface="B Titr"/>
              </a:rPr>
              <a:t>تا شاد  مان  کنن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B Titr"/>
                <a:cs typeface="B Titr"/>
              </a:rPr>
              <a:t>و مشکلاتمان را حل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B Titr"/>
              </a:rPr>
              <a:t>... و تنها چیزی که در عوض می خواهند اینکه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B Titr"/>
              </a:rPr>
              <a:t> </a:t>
            </a:r>
            <a:r>
              <a:rPr b="1" lang="ar-SA" sz="4400" spc="-1" strike="noStrike">
                <a:solidFill>
                  <a:srgbClr val="009900"/>
                </a:solidFill>
                <a:latin typeface="Times New Roman"/>
                <a:ea typeface="B Titr"/>
              </a:rPr>
              <a:t>***  تنهایشان نگذاریم ***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457200"/>
            <a:ext cx="746784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B Titr"/>
                <a:ea typeface="B Titr"/>
              </a:rPr>
              <a:t> به والدین خود عشق بورزی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فراموششان نکن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B Titr"/>
                <a:cs typeface="B Titr"/>
              </a:rPr>
              <a:t>برایشان زمان اختصاص ده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00"/>
                </a:solidFill>
                <a:latin typeface="B Titr"/>
                <a:cs typeface="B Titr"/>
              </a:rPr>
              <a:t>همراهی شان کن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B Titr"/>
                <a:cs typeface="B Titr"/>
              </a:rPr>
              <a:t>شادی آن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B Titr"/>
                <a:ea typeface="B Titr"/>
              </a:rPr>
              <a:t> شما را شاد دیدن اس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66ff"/>
                </a:solidFill>
                <a:latin typeface="B Titr"/>
                <a:cs typeface="B Titr"/>
              </a:rPr>
              <a:t>گرامی بداریدش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9900"/>
                </a:solidFill>
                <a:latin typeface="B Titr"/>
                <a:cs typeface="B Titr"/>
              </a:rPr>
              <a:t>و ترکشان نکنی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4038480"/>
            <a:ext cx="7238880" cy="198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762120"/>
            <a:ext cx="7467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هر کس می تواند هر زمان و به هر تعدا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فرزند داشته باش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B Titr"/>
                <a:cs typeface="B Titr"/>
              </a:rPr>
              <a:t>ولی پدر و مادر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B Titr"/>
                <a:cs typeface="B Titr"/>
              </a:rPr>
              <a:t>فقط یکب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 Titr"/>
                <a:cs typeface="B Titr"/>
              </a:rPr>
              <a:t>برای نشان دادن احترام خود به والدی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 Titr"/>
                <a:cs typeface="B Titr"/>
              </a:rPr>
              <a:t>این</a:t>
            </a:r>
            <a:r>
              <a:rPr b="1" lang="en-US" sz="2400" spc="-1" strike="noStrike">
                <a:solidFill>
                  <a:srgbClr val="ffffff"/>
                </a:solidFill>
                <a:latin typeface="B Titr"/>
                <a:ea typeface="B Titr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B Titr"/>
                <a:ea typeface="B Titr"/>
              </a:rPr>
              <a:t> فایل</a:t>
            </a:r>
            <a:r>
              <a:rPr b="1" lang="ar-SA" sz="2400" spc="-1" strike="noStrike">
                <a:solidFill>
                  <a:srgbClr val="ffffff"/>
                </a:solidFill>
                <a:latin typeface="B Titr"/>
                <a:ea typeface="B Titr"/>
              </a:rPr>
              <a:t> را برای تمام دوستانتان بفرستی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495680"/>
            <a:ext cx="5410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omic Sans MS"/>
                <a:cs typeface="B Nazanin"/>
              </a:rPr>
              <a:t>شما مي توانيد منتظر بمانيد تا موسيقي تمام شود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omic Sans MS"/>
                <a:cs typeface="B Nazanin"/>
              </a:rPr>
              <a:t>از برنامه خارج شويد</a:t>
            </a:r>
            <a:r>
              <a:rPr b="1" lang="ar-SA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</a:t>
            </a:r>
            <a:r>
              <a:rPr b="1" lang="ar-SA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Comic Sans MS"/>
                <a:cs typeface="B Nazanin"/>
              </a:rPr>
              <a:t>يا با فشار دادن</a:t>
            </a:r>
            <a:r>
              <a:rPr b="1" lang="ar-SA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 L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ve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W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lking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I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n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9900"/>
                </a:solidFill>
                <a:latin typeface="Times New Roman"/>
                <a:ea typeface="Times New Roman (Arabic)"/>
              </a:rPr>
              <a:t>‏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 (Arabic)"/>
              </a:rPr>
              <a:t>T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 (Arabic)"/>
              </a:rPr>
              <a:t>he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in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B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body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C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n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e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M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T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ars 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038480"/>
            <a:ext cx="49528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Times New Roman"/>
                <a:cs typeface="B Nazanin"/>
              </a:rPr>
              <a:t>با تشكر از همراهي تان</a:t>
            </a: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واد شريفي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9/3/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j_sharifian22@yaho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ehrbaan.blogf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roups.yahoo.com/group/starsinlov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817640" cy="1360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33920" y="3276720"/>
            <a:ext cx="1692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10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5715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B Titr"/>
              </a:rPr>
              <a:t> 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.........</a:t>
            </a: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پسر بچه كوچك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67280" y="1066680"/>
            <a:ext cx="297180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این پسر بچه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خیلی دوست داش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ا اين درخت سيب مدام بازي كن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ز تنه اش بالا ر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ز سيبهايش بچيند و بخو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در سايه اش بخواب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5083200" cy="56390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762120"/>
            <a:ext cx="510516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زمان گذشت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بچ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زرگتر شد و به درخت بي اعتن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يگر دوست نداشت با او بازي كن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ما  روزي دوباره به سراغ درخت آم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62720" y="1981080"/>
            <a:ext cx="297180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درخت س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ه پسر گفت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های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يا و با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ازي كن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859280" cy="5410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48320" y="762120"/>
            <a:ext cx="403848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جواب داد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من كه ديگر بچه نيست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كه بخواهم با درخت س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ازي كنم.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ea typeface="B Titr"/>
              </a:rPr>
              <a:t>« به دنبال سرگرمي هائ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ea typeface="B Titr"/>
              </a:rPr>
              <a:t> بهتر هست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cs typeface="B Titr"/>
              </a:rPr>
              <a:t>و براي خريدن آن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cs typeface="B Titr"/>
              </a:rPr>
              <a:t>پول لازم دارم . »</a:t>
            </a:r>
            <a:r>
              <a:rPr b="1" lang="ar-SA" sz="3200" spc="-1" strike="noStrike">
                <a:solidFill>
                  <a:srgbClr val="000000"/>
                </a:solidFill>
                <a:latin typeface="B Titr"/>
                <a:ea typeface="B Tit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996000" cy="5638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81480" y="1143000"/>
            <a:ext cx="29718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درخت گف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« پول ندارم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ولي تو مي تو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 سيب هاي مرا بچي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بفروش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و پول بدست آوري. 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782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685800"/>
            <a:ext cx="731520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پسر تمام سيب های درخت را چيد و رف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سيبها را   فروخت و آنچه را که  نياز داشت خري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خت را </a:t>
            </a:r>
            <a:r>
              <a:rPr b="1" lang="fa-IR" sz="2800" spc="-1" strike="noStrike">
                <a:solidFill>
                  <a:srgbClr val="3333cc"/>
                </a:solidFill>
                <a:latin typeface="B Titr"/>
                <a:cs typeface="B Titr"/>
              </a:rPr>
              <a:t>باز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فراموش کرد ..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پيشش  نيامد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درخت دوباره غمگين شد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58624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08:05Z</dcterms:created>
  <dc:creator>hamzeh</dc:creator>
  <dc:description/>
  <dc:language>en-US</dc:language>
  <cp:lastModifiedBy>hamzeh</cp:lastModifiedBy>
  <dcterms:modified xsi:type="dcterms:W3CDTF">2008-12-03T17:08:14Z</dcterms:modified>
  <cp:revision>1</cp:revision>
  <dc:subject/>
  <dc:title>Slide 1</dc:title>
</cp:coreProperties>
</file>