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648-ACAE-48A4-968F-A6C4CCAF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41B-500D-45BF-8082-E074EC7F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BA3-72EA-431B-805D-3A86FAD7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832-90FB-4B69-80D9-E2257F04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685C-4856-4415-BAFC-B0A3F19D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4D60-3F17-4689-876F-28B0241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A9F3-A3D7-4EF3-808E-59721488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0FF4-7CBF-45D3-9F5D-702CF2BA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1751-C31F-4A6A-9F54-BB73C10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AB68-B368-45F5-903A-8DB6F793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5B39-64BE-4A40-A93E-150AD59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0C7-BEAE-4607-A3EE-A6DAC3EC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0EF9-86D0-40D2-85AC-CA35B8D0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B523-2C3A-4A33-9982-23571B55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B362-72E9-43B8-97C5-05F61956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8D1-A7FF-4D3A-B410-E7696FD6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42B-02A1-493E-963B-42F64E2D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B21-4767-4740-8200-3051B33C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139-49D3-46AF-B7A7-F09785AA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EAD-4153-43EA-9BC5-002EEDBD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844-45FB-4EF0-87CE-5B6A5D01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272-34C6-47CE-A3B3-BE255E8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D70-A916-409A-A3FD-F90C6995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89A-FD7F-4DAF-9488-6DF972F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3BC5-0BE0-40DA-9C47-B975A3393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7BA2-B62E-4DB6-9352-60CE5CAAA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t Down The G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9920" y="4149720"/>
            <a:ext cx="6778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Matura MT Script Capitals"/>
                <a:cs typeface="MCS CLOCK FAT"/>
              </a:rPr>
              <a:t>لیوان را زمین بگذا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5ffff"/>
                </a:solidFill>
                <a:latin typeface="Tahoma"/>
                <a:cs typeface="Majiid"/>
              </a:rPr>
              <a:t>استادی درشروع کلاس درس ، لیوانی پراز آب به دست گرفت. آن را بالا گرفت که همه ببینند.بعد از شاگردان پرسید: &lt; به نظر شما وزن این لیوان چقدر است ؟ &gt; شاگردان جواب دادند &lt; </a:t>
            </a:r>
            <a:r>
              <a:rPr b="0" lang="fa-IR" sz="2400" spc="-1" strike="noStrike">
                <a:solidFill>
                  <a:srgbClr val="e5ffff"/>
                </a:solidFill>
                <a:latin typeface="Tahoma"/>
                <a:ea typeface="Majiid"/>
              </a:rPr>
              <a:t>50</a:t>
            </a:r>
            <a:r>
              <a:rPr b="0" lang="fa-IR" sz="2400" spc="-1" strike="noStrike">
                <a:solidFill>
                  <a:srgbClr val="e5ffff"/>
                </a:solidFill>
                <a:latin typeface="Tahoma"/>
                <a:ea typeface="Majiid"/>
              </a:rPr>
              <a:t> گرم ، </a:t>
            </a:r>
            <a:r>
              <a:rPr b="0" lang="fa-IR" sz="2400" spc="-1" strike="noStrike">
                <a:solidFill>
                  <a:srgbClr val="e5ffff"/>
                </a:solidFill>
                <a:latin typeface="Tahoma"/>
                <a:ea typeface="Majiid"/>
              </a:rPr>
              <a:t>100</a:t>
            </a:r>
            <a:r>
              <a:rPr b="0" lang="fa-IR" sz="2400" spc="-1" strike="noStrike">
                <a:solidFill>
                  <a:srgbClr val="e5ffff"/>
                </a:solidFill>
                <a:latin typeface="Tahoma"/>
                <a:ea typeface="Majiid"/>
              </a:rPr>
              <a:t> گرم ، </a:t>
            </a:r>
            <a:r>
              <a:rPr b="0" lang="fa-IR" sz="2400" spc="-1" strike="noStrike">
                <a:solidFill>
                  <a:srgbClr val="e5ffff"/>
                </a:solidFill>
                <a:latin typeface="Tahoma"/>
                <a:ea typeface="Majiid"/>
              </a:rPr>
              <a:t>150</a:t>
            </a:r>
            <a:r>
              <a:rPr b="0" lang="fa-IR" sz="2400" spc="-1" strike="noStrike">
                <a:solidFill>
                  <a:srgbClr val="e5ffff"/>
                </a:solidFill>
                <a:latin typeface="Tahoma"/>
                <a:ea typeface="Majiid"/>
              </a:rPr>
              <a:t> گرم &gt;</a:t>
            </a:r>
            <a:br>
              <a:rPr sz="2400"/>
            </a:br>
            <a:r>
              <a:rPr b="0" lang="fa-IR" sz="2400" spc="-1" strike="noStrike">
                <a:solidFill>
                  <a:srgbClr val="e5ffff"/>
                </a:solidFill>
                <a:latin typeface="Tahoma"/>
                <a:cs typeface="Majiid"/>
              </a:rPr>
              <a:t>استاد گفت : &lt; من هم بدون وزن کردن ، نمی دانم دقیقا“ وزنش چقدراست . اما سوال من این است : اگر من این لیوان آب را چند دقیقه همین طور نگه دارم ، چه اتفاقی خواهد افتاد ؟</a:t>
            </a:r>
            <a:r>
              <a:rPr b="0" lang="fa-IR" sz="2400" spc="-1" strike="noStrike">
                <a:solidFill>
                  <a:srgbClr val="e5ffff"/>
                </a:solidFill>
                <a:latin typeface="Tahoma"/>
                <a:ea typeface="Majiid"/>
              </a:rPr>
              <a:t>&gt;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3880" y="4000680"/>
            <a:ext cx="79297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Majiid"/>
              </a:rPr>
              <a:t>شاگردان گفتند : هیچ اتفاقی نمی افتد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Majiid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Majii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Majiid"/>
              </a:rPr>
              <a:t>استاد پرسید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Majiid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Majii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Majiid"/>
              </a:rPr>
              <a:t>&lt; 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Majiid"/>
              </a:rPr>
              <a:t>خوب ، اگر یک ساعت همین طور نگه دارم ، چه اتفاقی می افتد 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Majiid"/>
              </a:rPr>
              <a:t>یکی از شاگردان گفت : دست تان کم کم درد میگیرد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Majii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5ffff"/>
                </a:solidFill>
                <a:latin typeface="Tahoma"/>
                <a:ea typeface="Majalla Condensed"/>
              </a:rPr>
              <a:t>&lt; </a:t>
            </a: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Majalla Condensed"/>
              </a:rPr>
              <a:t>حق با توست . حالا اگر یک روز تمام آن را نگه دارم چه ؟</a:t>
            </a:r>
            <a:br>
              <a:rPr sz="2000"/>
            </a:b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Majalla Condensed"/>
              </a:rPr>
              <a:t>شاگرد دیگری جسارتا“ گفت : دست تان بی حس می شود .</a:t>
            </a:r>
            <a:br>
              <a:rPr sz="2000"/>
            </a:b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Majalla Condensed"/>
              </a:rPr>
              <a:t>عضلات به شدت تحت فشار قرار میگیرند و فلج می شوند . و مطمئنا“ کارتان به بیمارستان خواهد کشید &gt;</a:t>
            </a:r>
            <a:br>
              <a:rPr sz="2000"/>
            </a:b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Majalla Condensed"/>
              </a:rPr>
              <a:t>و همه شاگردان خندیدند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استاد گفت : خیلی خوب است . ولی آیا در این مدت وزن لیوان تغییرکرده است ؟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شاگردان جواب دادند : نه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پس چه چیز باعث درد و فشار روی عضلات می شود 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درعوض من چه باید بکنم 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شاگردان گیج شدند . یکی از آنها گفت : لیوان را زمین بگذارید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استاد گفت : دقیقا“ مشکلات زندگی هم مثل همین است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اگر آنها را چند دقیقه در ذهن تان نگه دارید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اشکالی ندارد . اگر مدت طولانی تری به آنها فکر کنید ، به درد  خواهند آمد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  <a:cs typeface="_  Jadid"/>
              </a:rPr>
              <a:t>اگر بیشتر از آن نگه شان دارید ، فلج تان می کنند و دیگر قادر به انجام کاری نخواهید بود</a:t>
            </a:r>
            <a:r>
              <a:rPr b="0" lang="fa-IR" sz="2000" spc="-1" strike="noStrike">
                <a:solidFill>
                  <a:srgbClr val="ffffff"/>
                </a:solidFill>
                <a:latin typeface="Tahoma"/>
                <a:ea typeface="_  Jadi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Siavash"/>
              </a:rPr>
              <a:t>فکرکردن به مشکلات زندگی مهم است . اما </a:t>
            </a: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Siavash"/>
              </a:rPr>
              <a:t>مهم تر آن است</a:t>
            </a:r>
            <a:r>
              <a:rPr b="0" lang="fa-IR" sz="2000" spc="-1" strike="noStrike">
                <a:solidFill>
                  <a:srgbClr val="e5ffff"/>
                </a:solidFill>
                <a:latin typeface="Tahoma"/>
                <a:ea typeface="Siavash"/>
              </a:rPr>
              <a:t>  که درپایان هر روز و پیش از خواب ، آنها را زمین بگذارید.</a:t>
            </a:r>
            <a:br>
              <a:rPr sz="2000"/>
            </a:b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Siavash"/>
              </a:rPr>
              <a:t>که درپایان هر روز و پیش از خواب ، آنها را زمین بگذارید.</a:t>
            </a:r>
            <a:br>
              <a:rPr sz="2000"/>
            </a:b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Siavash"/>
              </a:rPr>
              <a:t>به این ترتیب تحت فشار قرار نمی گیرند ، </a:t>
            </a:r>
            <a:br>
              <a:rPr sz="2000"/>
            </a:br>
            <a:r>
              <a:rPr b="0" lang="fa-IR" sz="2000" spc="-1" strike="noStrike">
                <a:solidFill>
                  <a:srgbClr val="e5ffff"/>
                </a:solidFill>
                <a:latin typeface="Tahoma"/>
                <a:cs typeface="Siavash"/>
              </a:rPr>
              <a:t>هر روز صبح سرحال و قوی بیدار می شوید و قادر خواهید بود از عهده هرمسئله و چالشی که برایتان پیش می آید ، برآیید</a:t>
            </a:r>
            <a:r>
              <a:rPr b="0" lang="fa-IR" sz="2000" spc="-1" strike="noStrike">
                <a:solidFill>
                  <a:srgbClr val="e5ffff"/>
                </a:solidFill>
                <a:latin typeface="Tahoma"/>
                <a:ea typeface="Siavash"/>
              </a:rPr>
              <a:t>!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_  Jadid"/>
              </a:rPr>
              <a:t>دوست من ، یادت باشد که لیوان آب را همین امروز زمین بگذاری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  <a:ea typeface="_  Jadid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  <a:ea typeface="_  Jadi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_  Jadid"/>
              </a:rPr>
              <a:t>زندگی همین است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  <a:ea typeface="_  Jadid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5:13:03Z</dcterms:created>
  <dc:creator>a_hosseini</dc:creator>
  <dc:description/>
  <dc:language>en-US</dc:language>
  <cp:lastModifiedBy>DIAMOND</cp:lastModifiedBy>
  <dcterms:modified xsi:type="dcterms:W3CDTF">2010-12-06T20:11:58Z</dcterms:modified>
  <cp:revision>13</cp:revision>
  <dc:subject/>
  <dc:title>استادی درشروع کلاس د               رس ، لیوانی پراز</dc:title>
</cp:coreProperties>
</file>